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6BB8-B479-4CB3-B218-FB3275CF01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67FD-2BBC-4BCE-9B5E-42D453E31E40}" type="slidenum">
              <a:rPr b="0" lang="en-GB" sz="1200" spc="-1" strike="noStrike">
                <a:solidFill>
                  <a:srgbClr val="000000"/>
                </a:solidFill>
                <a:latin typeface="HouschkaMedium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95280" y="803160"/>
            <a:ext cx="4268880" cy="3202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8480" y="4341960"/>
            <a:ext cx="472104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ouschka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D2EE-57B9-48F1-9048-4D20FF6CD018}" type="slidenum">
              <a:rPr b="0" lang="en-GB" sz="1200" spc="-1" strike="noStrike">
                <a:solidFill>
                  <a:srgbClr val="000000"/>
                </a:solidFill>
                <a:latin typeface="HouschkaMedium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1068480" y="4341960"/>
            <a:ext cx="472104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Houschka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1295280" y="803160"/>
            <a:ext cx="4268880" cy="3202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8F2A-2B84-4BA7-8A5B-1912E56450C1}" type="slidenum">
              <a:rPr b="0" lang="en-GB" sz="1200" spc="-1" strike="noStrike">
                <a:solidFill>
                  <a:srgbClr val="000000"/>
                </a:solidFill>
                <a:latin typeface="HouschkaMedium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Houschka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E760-D281-4723-8833-15C6207FB3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38923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3892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3892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3892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240" y="-360"/>
            <a:ext cx="716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923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728720" y="2133720"/>
            <a:ext cx="10429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Quo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46240" y="2133720"/>
            <a:ext cx="10447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Qui achè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165560" y="2133720"/>
            <a:ext cx="10447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À qu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84880" y="2133720"/>
            <a:ext cx="104436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A quel pri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603840" y="2133720"/>
            <a:ext cx="104328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Récurrence de l’ac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823160" y="2133720"/>
            <a:ext cx="10429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Pourquo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 flipH="1" rot="10800000">
            <a:off x="187164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 flipH="1" rot="10800000">
            <a:off x="308304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 flipH="1" rot="10800000">
            <a:off x="4324680" y="3124080"/>
            <a:ext cx="72108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 flipH="1" rot="10800000">
            <a:off x="556416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 flipH="1" rot="10800000">
            <a:off x="679752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 flipH="1" rot="10800000">
            <a:off x="7993080" y="3124080"/>
            <a:ext cx="71928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93680" y="3665520"/>
            <a:ext cx="137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6f2c7d"/>
                </a:solidFill>
                <a:latin typeface="Arial"/>
              </a:rPr>
              <a:t>Liste des informations nécessair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69840" y="2198520"/>
            <a:ext cx="1655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6f2c7d"/>
                </a:solidFill>
                <a:latin typeface="Arial"/>
              </a:rPr>
              <a:t>Check list des questions importantes à se pos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1441440" y="3665520"/>
            <a:ext cx="1538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Description du produit/serv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Spécif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Quantité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Composantes du produ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2879640" y="3665520"/>
            <a:ext cx="11955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Entité concerné par l’ach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centre de coû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’achet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4075200" y="3665520"/>
            <a:ext cx="112536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nom du fourniss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Ses référe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5342040" y="3665520"/>
            <a:ext cx="1139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éléments de coût compl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montant total factur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6537240" y="3665520"/>
            <a:ext cx="112572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a date de la fa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références de pai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références du reç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7804080" y="3665520"/>
            <a:ext cx="130500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Histor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potentiel du fourniss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problèmes et contraintes actuelles ou prés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11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ste des éléments essentiels pour établir une cartographie Acha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0"/>
          <p:cNvGrpSpPr/>
          <p:nvPr/>
        </p:nvGrpSpPr>
        <p:grpSpPr>
          <a:xfrm>
            <a:off x="590400" y="1628640"/>
            <a:ext cx="8205480" cy="4895640"/>
            <a:chOff x="590400" y="1628640"/>
            <a:chExt cx="8205480" cy="4895640"/>
          </a:xfrm>
        </p:grpSpPr>
        <p:sp>
          <p:nvSpPr>
            <p:cNvPr id="67" name="Rectangle 55"/>
            <p:cNvSpPr/>
            <p:nvPr/>
          </p:nvSpPr>
          <p:spPr>
            <a:xfrm>
              <a:off x="3346560" y="2239920"/>
              <a:ext cx="2080440" cy="1257120"/>
            </a:xfrm>
            <a:prstGeom prst="rect">
              <a:avLst/>
            </a:prstGeom>
            <a:noFill/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ix payé selon le lie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ix payé à l'unité d'affai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Évolution du prix payé au fournisseu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Les données historiques sur les prix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Rectangle 56"/>
            <p:cNvGrpSpPr/>
            <p:nvPr/>
          </p:nvGrpSpPr>
          <p:grpSpPr>
            <a:xfrm>
              <a:off x="5934600" y="1628640"/>
              <a:ext cx="2848680" cy="631800"/>
              <a:chOff x="5934600" y="1628640"/>
              <a:chExt cx="2848680" cy="631800"/>
            </a:xfrm>
          </p:grpSpPr>
          <p:pic>
            <p:nvPicPr>
              <p:cNvPr id="69" name="Rectangle 56" descr=""/>
              <p:cNvPicPr/>
              <p:nvPr/>
            </p:nvPicPr>
            <p:blipFill>
              <a:blip r:embed="rId1"/>
              <a:stretch/>
            </p:blipFill>
            <p:spPr>
              <a:xfrm>
                <a:off x="5934600" y="1628640"/>
                <a:ext cx="2848680" cy="63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5995800" y="1737000"/>
                <a:ext cx="269820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écifications du produit ou servic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Rectangle 57"/>
            <p:cNvSpPr/>
            <p:nvPr/>
          </p:nvSpPr>
          <p:spPr>
            <a:xfrm>
              <a:off x="5995440" y="2223000"/>
              <a:ext cx="2698560" cy="1274040"/>
            </a:xfrm>
            <a:prstGeom prst="rect">
              <a:avLst/>
            </a:prstGeom>
            <a:noFill/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Spécifications fonctionnel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Spécifications de concep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Fiche de qualit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ièces et composants de re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Norm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opriété (biens et intellectuelle 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90000"/>
                </a:lnSpc>
                <a:tabLst>
                  <a:tab algn="l" pos="0"/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Rectangle 58"/>
            <p:cNvGrpSpPr/>
            <p:nvPr/>
          </p:nvGrpSpPr>
          <p:grpSpPr>
            <a:xfrm>
              <a:off x="590400" y="4656960"/>
              <a:ext cx="3329280" cy="625320"/>
              <a:chOff x="590400" y="4656960"/>
              <a:chExt cx="3329280" cy="625320"/>
            </a:xfrm>
          </p:grpSpPr>
          <p:pic>
            <p:nvPicPr>
              <p:cNvPr id="73" name="Rectangle 58" descr=""/>
              <p:cNvPicPr/>
              <p:nvPr/>
            </p:nvPicPr>
            <p:blipFill>
              <a:blip r:embed="rId2"/>
              <a:stretch/>
            </p:blipFill>
            <p:spPr>
              <a:xfrm>
                <a:off x="590400" y="4656960"/>
                <a:ext cx="3329280" cy="62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652680" y="4691160"/>
                <a:ext cx="3211560" cy="52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cessus d'achat actue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Rectangle 59"/>
            <p:cNvSpPr/>
            <p:nvPr/>
          </p:nvSpPr>
          <p:spPr>
            <a:xfrm>
              <a:off x="649440" y="5250240"/>
              <a:ext cx="3215160" cy="127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Réapprovisionnement suivant command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ocessus spécifiques (homologation, 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Évaluation du fournisse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Négociation / Enchèr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Contrôle des performan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Rectangle 60"/>
            <p:cNvGrpSpPr/>
            <p:nvPr/>
          </p:nvGrpSpPr>
          <p:grpSpPr>
            <a:xfrm>
              <a:off x="5297400" y="4680360"/>
              <a:ext cx="3498480" cy="625320"/>
              <a:chOff x="5297400" y="4680360"/>
              <a:chExt cx="3498480" cy="625320"/>
            </a:xfrm>
          </p:grpSpPr>
          <p:pic>
            <p:nvPicPr>
              <p:cNvPr id="77" name="Rectangle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7400" y="4680360"/>
                <a:ext cx="3498480" cy="62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5357160" y="4713840"/>
                <a:ext cx="3384720" cy="52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traintes actuel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Rectangle 61"/>
            <p:cNvSpPr/>
            <p:nvPr/>
          </p:nvSpPr>
          <p:spPr>
            <a:xfrm>
              <a:off x="5356440" y="5305680"/>
              <a:ext cx="3382920" cy="121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Imposées par nous mêm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Fournisseur imposé (raisons techniques o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économiques), par le client ou par le Group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Réglementation (taxes, ..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Stratégies d’allian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Oval 62"/>
            <p:cNvGrpSpPr/>
            <p:nvPr/>
          </p:nvGrpSpPr>
          <p:grpSpPr>
            <a:xfrm>
              <a:off x="2670480" y="3953880"/>
              <a:ext cx="3449880" cy="554040"/>
              <a:chOff x="2670480" y="3953880"/>
              <a:chExt cx="3449880" cy="554040"/>
            </a:xfrm>
          </p:grpSpPr>
          <p:pic>
            <p:nvPicPr>
              <p:cNvPr id="81" name="Oval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2670480" y="3953880"/>
                <a:ext cx="3449880" cy="55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3218760" y="4053600"/>
                <a:ext cx="235836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95400"/>
                    <a:tab algn="r" pos="7740720"/>
                    <a:tab algn="l" pos="8556480"/>
                    <a:tab algn="l" pos="9412200"/>
                    <a:tab algn="l" pos="1026792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Caractéristiques de b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Rectangle 65"/>
            <p:cNvGrpSpPr/>
            <p:nvPr/>
          </p:nvGrpSpPr>
          <p:grpSpPr>
            <a:xfrm>
              <a:off x="3288960" y="1699920"/>
              <a:ext cx="2194560" cy="554040"/>
              <a:chOff x="3288960" y="1699920"/>
              <a:chExt cx="2194560" cy="554040"/>
            </a:xfrm>
          </p:grpSpPr>
          <p:pic>
            <p:nvPicPr>
              <p:cNvPr id="84" name="Rectangle 65" descr=""/>
              <p:cNvPicPr/>
              <p:nvPr/>
            </p:nvPicPr>
            <p:blipFill>
              <a:blip r:embed="rId5"/>
              <a:stretch/>
            </p:blipFill>
            <p:spPr>
              <a:xfrm>
                <a:off x="3288960" y="1699920"/>
                <a:ext cx="2194560" cy="55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346200" y="1736640"/>
                <a:ext cx="208116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i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6" name="AutoShape 66"/>
            <p:cNvCxnSpPr>
              <a:stCxn id="71" idx="2"/>
            </p:cNvCxnSpPr>
            <p:nvPr/>
          </p:nvCxnSpPr>
          <p:spPr>
            <a:xfrm flipH="1">
              <a:off x="5576760" y="3497400"/>
              <a:ext cx="1767960" cy="556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7" name="AutoShape 67"/>
            <p:cNvCxnSpPr>
              <a:stCxn id="67" idx="2"/>
            </p:cNvCxnSpPr>
            <p:nvPr/>
          </p:nvCxnSpPr>
          <p:spPr>
            <a:xfrm>
              <a:off x="4387680" y="3497040"/>
              <a:ext cx="11520" cy="491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grpSp>
          <p:nvGrpSpPr>
            <p:cNvPr id="88" name="Rectangle 63"/>
            <p:cNvGrpSpPr/>
            <p:nvPr/>
          </p:nvGrpSpPr>
          <p:grpSpPr>
            <a:xfrm>
              <a:off x="681120" y="1699920"/>
              <a:ext cx="2188080" cy="560160"/>
              <a:chOff x="681120" y="1699920"/>
              <a:chExt cx="2188080" cy="560160"/>
            </a:xfrm>
          </p:grpSpPr>
          <p:pic>
            <p:nvPicPr>
              <p:cNvPr id="89" name="Rectangle 63" descr=""/>
              <p:cNvPicPr/>
              <p:nvPr/>
            </p:nvPicPr>
            <p:blipFill>
              <a:blip r:embed="rId6"/>
              <a:stretch/>
            </p:blipFill>
            <p:spPr>
              <a:xfrm>
                <a:off x="681120" y="1699920"/>
                <a:ext cx="218808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742680" y="1736640"/>
                <a:ext cx="2071080" cy="45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olu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64"/>
            <p:cNvSpPr/>
            <p:nvPr/>
          </p:nvSpPr>
          <p:spPr>
            <a:xfrm>
              <a:off x="742320" y="2243160"/>
              <a:ext cx="2080080" cy="1254240"/>
            </a:xfrm>
            <a:prstGeom prst="rect">
              <a:avLst/>
            </a:prstGeom>
            <a:noFill/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ar lieu de consomm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ar unité d'affai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Les données historiqu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Les tendances possibles d'approvisionn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évisions d'utilisa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AutoShape 68"/>
            <p:cNvCxnSpPr>
              <a:stCxn id="91" idx="2"/>
            </p:cNvCxnSpPr>
            <p:nvPr/>
          </p:nvCxnSpPr>
          <p:spPr>
            <a:xfrm>
              <a:off x="1782720" y="3497400"/>
              <a:ext cx="1437480" cy="556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3" name="AutoShape 69"/>
            <p:cNvCxnSpPr/>
            <p:nvPr/>
          </p:nvCxnSpPr>
          <p:spPr>
            <a:xfrm flipH="1" flipV="1">
              <a:off x="5576760" y="4369320"/>
              <a:ext cx="1755720" cy="328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4" name="AutoShape 70"/>
            <p:cNvCxnSpPr/>
            <p:nvPr/>
          </p:nvCxnSpPr>
          <p:spPr>
            <a:xfrm flipV="1">
              <a:off x="2258640" y="4369320"/>
              <a:ext cx="960120" cy="32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95" name="Rectangle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ractéristique de la collect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Rectangle 20"/>
          <p:cNvGrpSpPr/>
          <p:nvPr/>
        </p:nvGrpSpPr>
        <p:grpSpPr>
          <a:xfrm>
            <a:off x="689040" y="1530360"/>
            <a:ext cx="2346120" cy="401760"/>
            <a:chOff x="689040" y="1530360"/>
            <a:chExt cx="2346120" cy="401760"/>
          </a:xfrm>
        </p:grpSpPr>
        <p:pic>
          <p:nvPicPr>
            <p:cNvPr id="97" name="Rectangle 20" descr=""/>
            <p:cNvPicPr/>
            <p:nvPr/>
          </p:nvPicPr>
          <p:blipFill>
            <a:blip r:embed="rId1"/>
            <a:stretch/>
          </p:blipFill>
          <p:spPr>
            <a:xfrm>
              <a:off x="689040" y="1530360"/>
              <a:ext cx="234612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47720" y="1582560"/>
              <a:ext cx="2235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 R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21"/>
          <p:cNvSpPr/>
          <p:nvPr/>
        </p:nvSpPr>
        <p:spPr>
          <a:xfrm>
            <a:off x="747720" y="2006640"/>
            <a:ext cx="2239920" cy="200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Historique des ach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prix unitaires payés (fichiers de fa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Volume acheté par fourniss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Fréquence de l'a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3106800" y="2006640"/>
            <a:ext cx="2382840" cy="20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Informations sur les fournisseurs actuels et pass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prix unitaires, de base, la ta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Capacité / Qualité / Livra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oc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Délais de pai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contraintes de livra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Fiche prod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fournisseurs potenti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5592600" y="2006640"/>
            <a:ext cx="2579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Fiche produit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fournisseurs potentiels (nom, les capacités, la qualit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 fournisseur actuel (capacité, la qualité, certific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produits de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nouveaux entr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Techniques utilisées / filière mé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684360" y="4578480"/>
            <a:ext cx="2601720" cy="20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a saisonnalité du produit final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Qui sont mes concurrents à l’ac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Achat local ou 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ventes sur les marchés ci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Suis-je le client préféré de mon fournisseur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3344760" y="4578480"/>
            <a:ext cx="2235240" cy="20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Évolution de la qual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Évolution des quantités et  des pré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Influence des nor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5724360" y="4578480"/>
            <a:ext cx="2592720" cy="20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Volume significatif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Impact sur l’établissement des prix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Performance et accompagnement, réactivité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Standard correspondant à mon besoin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Performance de ses fourniss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Rectangle 27"/>
          <p:cNvGrpSpPr/>
          <p:nvPr/>
        </p:nvGrpSpPr>
        <p:grpSpPr>
          <a:xfrm>
            <a:off x="3133800" y="1542960"/>
            <a:ext cx="2346120" cy="401760"/>
            <a:chOff x="3133800" y="1542960"/>
            <a:chExt cx="2346120" cy="401760"/>
          </a:xfrm>
        </p:grpSpPr>
        <p:pic>
          <p:nvPicPr>
            <p:cNvPr id="106" name="Rectangle 27" descr=""/>
            <p:cNvPicPr/>
            <p:nvPr/>
          </p:nvPicPr>
          <p:blipFill>
            <a:blip r:embed="rId2"/>
            <a:stretch/>
          </p:blipFill>
          <p:spPr>
            <a:xfrm>
              <a:off x="3133800" y="1542960"/>
              <a:ext cx="234612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192480" y="1592280"/>
              <a:ext cx="2235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Approvision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ectangle 28"/>
          <p:cNvGrpSpPr/>
          <p:nvPr/>
        </p:nvGrpSpPr>
        <p:grpSpPr>
          <a:xfrm>
            <a:off x="5516640" y="1542960"/>
            <a:ext cx="2676600" cy="401760"/>
            <a:chOff x="5516640" y="1542960"/>
            <a:chExt cx="2676600" cy="401760"/>
          </a:xfrm>
        </p:grpSpPr>
        <p:pic>
          <p:nvPicPr>
            <p:cNvPr id="109" name="Rectangle 28" descr=""/>
            <p:cNvPicPr/>
            <p:nvPr/>
          </p:nvPicPr>
          <p:blipFill>
            <a:blip r:embed="rId3"/>
            <a:stretch/>
          </p:blipFill>
          <p:spPr>
            <a:xfrm>
              <a:off x="5516640" y="1542960"/>
              <a:ext cx="267660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580000" y="1592280"/>
              <a:ext cx="2559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echnolo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Rectangle 29"/>
          <p:cNvGrpSpPr/>
          <p:nvPr/>
        </p:nvGrpSpPr>
        <p:grpSpPr>
          <a:xfrm>
            <a:off x="622440" y="4127400"/>
            <a:ext cx="2706480" cy="401760"/>
            <a:chOff x="622440" y="4127400"/>
            <a:chExt cx="2706480" cy="401760"/>
          </a:xfrm>
        </p:grpSpPr>
        <p:pic>
          <p:nvPicPr>
            <p:cNvPr id="112" name="Rectangle 29" descr=""/>
            <p:cNvPicPr/>
            <p:nvPr/>
          </p:nvPicPr>
          <p:blipFill>
            <a:blip r:embed="rId4"/>
            <a:stretch/>
          </p:blipFill>
          <p:spPr>
            <a:xfrm>
              <a:off x="622440" y="4127400"/>
              <a:ext cx="27064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4360" y="4176720"/>
              <a:ext cx="259056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V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Rectangle 30"/>
          <p:cNvGrpSpPr/>
          <p:nvPr/>
        </p:nvGrpSpPr>
        <p:grpSpPr>
          <a:xfrm>
            <a:off x="3303720" y="4114800"/>
            <a:ext cx="2354040" cy="401760"/>
            <a:chOff x="3303720" y="4114800"/>
            <a:chExt cx="2354040" cy="401760"/>
          </a:xfrm>
        </p:grpSpPr>
        <p:pic>
          <p:nvPicPr>
            <p:cNvPr id="115" name="Rectangle 30" descr=""/>
            <p:cNvPicPr/>
            <p:nvPr/>
          </p:nvPicPr>
          <p:blipFill>
            <a:blip r:embed="rId5"/>
            <a:stretch/>
          </p:blipFill>
          <p:spPr>
            <a:xfrm>
              <a:off x="3303720" y="4114800"/>
              <a:ext cx="235404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367080" y="4164120"/>
              <a:ext cx="223524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a pro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ectangle 31"/>
          <p:cNvGrpSpPr/>
          <p:nvPr/>
        </p:nvGrpSpPr>
        <p:grpSpPr>
          <a:xfrm>
            <a:off x="5675400" y="4127400"/>
            <a:ext cx="2639880" cy="401760"/>
            <a:chOff x="5675400" y="4127400"/>
            <a:chExt cx="2639880" cy="401760"/>
          </a:xfrm>
        </p:grpSpPr>
        <p:pic>
          <p:nvPicPr>
            <p:cNvPr id="118" name="Rectangle 31" descr=""/>
            <p:cNvPicPr/>
            <p:nvPr/>
          </p:nvPicPr>
          <p:blipFill>
            <a:blip r:embed="rId6"/>
            <a:stretch/>
          </p:blipFill>
          <p:spPr>
            <a:xfrm>
              <a:off x="5675400" y="4127400"/>
              <a:ext cx="26398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737320" y="4175280"/>
              <a:ext cx="25225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es fournisse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2"/>
          <p:cNvSpPr/>
          <p:nvPr/>
        </p:nvSpPr>
        <p:spPr>
          <a:xfrm>
            <a:off x="0" y="-20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urce et outils de collect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6548400" y="669456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F9A6-278F-4888-9444-87C4B69BBD33}" type="slidenum">
              <a:rPr b="0" lang="fr-FR" sz="1200" spc="-1" strike="noStrike">
                <a:solidFill>
                  <a:srgbClr val="000000"/>
                </a:solidFill>
                <a:latin typeface="Houschka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49400" y="1731960"/>
            <a:ext cx="886932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4000" rIns="10800" tIns="180000" bIns="7200" anchor="t">
            <a:noAutofit/>
          </a:bodyPr>
          <a:p>
            <a:pPr marL="181080" indent="-181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PTK03TGGH11"/>
          <p:cNvSpPr/>
          <p:nvPr/>
        </p:nvSpPr>
        <p:spPr>
          <a:xfrm>
            <a:off x="231840" y="1770120"/>
            <a:ext cx="367200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Données u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PTK03TGGH12"/>
          <p:cNvSpPr/>
          <p:nvPr/>
        </p:nvSpPr>
        <p:spPr>
          <a:xfrm>
            <a:off x="3995640" y="1770120"/>
            <a:ext cx="345456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Points à étud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52280" y="4633920"/>
            <a:ext cx="8871120" cy="20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4000" rIns="10800" tIns="180000" bIns="7200" anchor="t">
            <a:noAutofit/>
          </a:bodyPr>
          <a:p>
            <a:pPr marL="181080" indent="-181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7"/>
          <p:cNvGrpSpPr/>
          <p:nvPr/>
        </p:nvGrpSpPr>
        <p:grpSpPr>
          <a:xfrm>
            <a:off x="92160" y="4206960"/>
            <a:ext cx="8985240" cy="498240"/>
            <a:chOff x="92160" y="4206960"/>
            <a:chExt cx="8985240" cy="498240"/>
          </a:xfrm>
        </p:grpSpPr>
        <p:pic>
          <p:nvPicPr>
            <p:cNvPr id="127" name="Rectangle 7" descr=""/>
            <p:cNvPicPr/>
            <p:nvPr/>
          </p:nvPicPr>
          <p:blipFill>
            <a:blip r:embed="rId1"/>
            <a:stretch/>
          </p:blipFill>
          <p:spPr>
            <a:xfrm>
              <a:off x="92160" y="4206960"/>
              <a:ext cx="8985240" cy="49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52280" y="4267080"/>
              <a:ext cx="8871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MPREHENSION DES SPECIFICITES DES PRODUITS /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CPTK03TGGH11"/>
          <p:cNvSpPr/>
          <p:nvPr/>
        </p:nvSpPr>
        <p:spPr>
          <a:xfrm>
            <a:off x="235080" y="4721400"/>
            <a:ext cx="367344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Le cas échéant, spécificités à soulig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PTK03TGGH12"/>
          <p:cNvSpPr/>
          <p:nvPr/>
        </p:nvSpPr>
        <p:spPr>
          <a:xfrm>
            <a:off x="3995640" y="4721400"/>
            <a:ext cx="345456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Points à étud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PTK04TBGT11"/>
          <p:cNvSpPr/>
          <p:nvPr/>
        </p:nvSpPr>
        <p:spPr>
          <a:xfrm>
            <a:off x="235080" y="4997520"/>
            <a:ext cx="3673440" cy="16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Technique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degré de standardisation, possibilité de fabrication en interne, technicité du produit, évolutions techniques rapides, normes de sécurité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rocess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coût de changement de fournisseur élevé, process maîtrisé par peu de fournisseurs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ouverture et logistique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couverture géographique discriminante, coûts de transports élevés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Service rendu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qualité, flexibilité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PTK04TBGT12"/>
          <p:cNvSpPr/>
          <p:nvPr/>
        </p:nvSpPr>
        <p:spPr>
          <a:xfrm>
            <a:off x="3995640" y="4998960"/>
            <a:ext cx="3454560" cy="16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Faire ressortir les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spécificités et contraintes propres aux sous-catégories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(et non réaliser une qualification systématique et exhaustive de chacun des critèr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omprendre un premier niveau de criticité des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sous-catég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PTK04TBGT11"/>
          <p:cNvSpPr/>
          <p:nvPr/>
        </p:nvSpPr>
        <p:spPr>
          <a:xfrm>
            <a:off x="231840" y="2048040"/>
            <a:ext cx="367200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érimètre couvert par la catégori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 algn="just">
              <a:lnSpc>
                <a:spcPct val="85000"/>
              </a:lnSpc>
              <a:spcBef>
                <a:spcPts val="24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roduits e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 algn="just">
              <a:lnSpc>
                <a:spcPct val="85000"/>
              </a:lnSpc>
              <a:spcBef>
                <a:spcPts val="24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Géograph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 algn="just">
              <a:lnSpc>
                <a:spcPct val="85000"/>
              </a:lnSpc>
              <a:spcBef>
                <a:spcPts val="24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artographie globale des dépenses sur la catégorie (actuelle, historique et tendances) :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montant d’achats, volume global (si significatif), répartition des dépenses en % : par sous catégorie, et sur un périmètre déterminé, degré d’importance de la catégorie dans l’assiette globale des dé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Repères de coûts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(unités d’œuvre et prix associé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PTK04TBGT12"/>
          <p:cNvSpPr/>
          <p:nvPr/>
        </p:nvSpPr>
        <p:spPr>
          <a:xfrm>
            <a:off x="3995640" y="2048040"/>
            <a:ext cx="34545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Avoir une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vision globale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u périmètre achats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e l'entrepr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omprendre ce qui est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exclu du périmè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Identifier des possibilités d’extension de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périmètre de la catégorie et des sous-catég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Obtenir une vision de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l’assiette de dépenses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sur la catégorie, donner des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ordres de grand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Avoir une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vision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ynamique de l’évolution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es dé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Identifier les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s-catégories sur lesquelles devront porter les efforts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(priorité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PTK03TGGH12"/>
          <p:cNvSpPr/>
          <p:nvPr/>
        </p:nvSpPr>
        <p:spPr>
          <a:xfrm>
            <a:off x="7556400" y="1770120"/>
            <a:ext cx="1335240" cy="2761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PTK03TGGH12"/>
          <p:cNvSpPr/>
          <p:nvPr/>
        </p:nvSpPr>
        <p:spPr>
          <a:xfrm>
            <a:off x="7556400" y="4721400"/>
            <a:ext cx="1335240" cy="2761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PTK04TBGT12"/>
          <p:cNvSpPr/>
          <p:nvPr/>
        </p:nvSpPr>
        <p:spPr>
          <a:xfrm>
            <a:off x="7561440" y="4998960"/>
            <a:ext cx="1334880" cy="16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Entretiens avec contacts intern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Utilisat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rescript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Expe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PTK04TBGT12"/>
          <p:cNvSpPr/>
          <p:nvPr/>
        </p:nvSpPr>
        <p:spPr>
          <a:xfrm>
            <a:off x="7561440" y="2048040"/>
            <a:ext cx="13348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Comptabilité fourniss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atawarehouse (remontées factur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Reporting middle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Contrôle budgétaire des enti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ectangle 19"/>
          <p:cNvGrpSpPr/>
          <p:nvPr/>
        </p:nvGrpSpPr>
        <p:grpSpPr>
          <a:xfrm>
            <a:off x="85680" y="1305000"/>
            <a:ext cx="8985240" cy="500040"/>
            <a:chOff x="85680" y="1305000"/>
            <a:chExt cx="8985240" cy="500040"/>
          </a:xfrm>
        </p:grpSpPr>
        <p:pic>
          <p:nvPicPr>
            <p:cNvPr id="140" name="Rectangle 19" descr=""/>
            <p:cNvPicPr/>
            <p:nvPr/>
          </p:nvPicPr>
          <p:blipFill>
            <a:blip r:embed="rId2"/>
            <a:stretch/>
          </p:blipFill>
          <p:spPr>
            <a:xfrm>
              <a:off x="85680" y="1305000"/>
              <a:ext cx="89852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49400" y="1368360"/>
              <a:ext cx="88693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ARTOGRAPHIE GLOBALE DES DEPEN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2"/>
          <p:cNvSpPr/>
          <p:nvPr/>
        </p:nvSpPr>
        <p:spPr>
          <a:xfrm>
            <a:off x="0" y="792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rtographie globale des dé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24000" y="1916280"/>
          <a:ext cx="8229600" cy="1676160"/>
        </p:xfrm>
        <a:graphic>
          <a:graphicData uri="http://schemas.openxmlformats.org/drawingml/2006/table">
            <a:tbl>
              <a:tblPr/>
              <a:tblGrid>
                <a:gridCol w="3759120"/>
                <a:gridCol w="2125440"/>
                <a:gridCol w="2345040"/>
              </a:tblGrid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le / Catégo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s-Catégo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ème d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ér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lécommun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léphonie Mo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tien du 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re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aces ve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4" name="Rectangle avec flèche vers le haut 12"/>
          <p:cNvSpPr/>
          <p:nvPr/>
        </p:nvSpPr>
        <p:spPr>
          <a:xfrm>
            <a:off x="909720" y="3433680"/>
            <a:ext cx="2133360" cy="1081080"/>
          </a:xfrm>
          <a:prstGeom prst="upArrowCallout">
            <a:avLst>
              <a:gd name="adj1" fmla="val 24998"/>
              <a:gd name="adj2" fmla="val 24996"/>
              <a:gd name="adj3" fmla="val 25000"/>
              <a:gd name="adj4" fmla="val 70041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lassification fonc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avec flèche vers le haut 14"/>
          <p:cNvSpPr/>
          <p:nvPr/>
        </p:nvSpPr>
        <p:spPr>
          <a:xfrm>
            <a:off x="6396120" y="3448080"/>
            <a:ext cx="2057400" cy="1081080"/>
          </a:xfrm>
          <a:prstGeom prst="upArrowCallout">
            <a:avLst>
              <a:gd name="adj1" fmla="val 25007"/>
              <a:gd name="adj2" fmla="val 25004"/>
              <a:gd name="adj3" fmla="val 25000"/>
              <a:gd name="adj4" fmla="val 70041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rché fourniss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avec flèche vers le haut 15"/>
          <p:cNvSpPr/>
          <p:nvPr/>
        </p:nvSpPr>
        <p:spPr>
          <a:xfrm>
            <a:off x="4186080" y="3448080"/>
            <a:ext cx="2057400" cy="1081080"/>
          </a:xfrm>
          <a:prstGeom prst="upArrowCallout">
            <a:avLst>
              <a:gd name="adj1" fmla="val 25007"/>
              <a:gd name="adj2" fmla="val 25004"/>
              <a:gd name="adj3" fmla="val 25000"/>
              <a:gd name="adj4" fmla="val 70041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étier technolog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-1440"/>
            <a:ext cx="78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emple de référentiel Ach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1"/>
          <p:cNvSpPr/>
          <p:nvPr/>
        </p:nvSpPr>
        <p:spPr>
          <a:xfrm>
            <a:off x="-108000" y="6478560"/>
            <a:ext cx="358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F7B6-8A2A-4F87-8781-BB6C9CB5BC9A}" type="slidenum">
              <a:rPr b="0" lang="fr-F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Graphique 7"/>
          <p:cNvGraphicFramePr/>
          <p:nvPr/>
        </p:nvGraphicFramePr>
        <p:xfrm>
          <a:off x="249120" y="1484280"/>
          <a:ext cx="84330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Graphiqu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120" y="1484280"/>
                    <a:ext cx="8433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542360" y="5568840"/>
          <a:ext cx="1326960" cy="559080"/>
        </p:xfrm>
        <a:graphic>
          <a:graphicData uri="http://schemas.openxmlformats.org/drawingml/2006/table">
            <a:tbl>
              <a:tblPr/>
              <a:tblGrid>
                <a:gridCol w="293400"/>
                <a:gridCol w="103356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898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cadd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s prod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1"/>
          <p:cNvSpPr/>
          <p:nvPr/>
        </p:nvSpPr>
        <p:spPr>
          <a:xfrm>
            <a:off x="31680" y="14400"/>
            <a:ext cx="911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aliser une cartographie Achats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présentation d’une cartographie Ach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09:38:44Z</dcterms:created>
  <dc:creator>Olivier AUDINO</dc:creator>
  <dc:description/>
  <cp:keywords/>
  <dc:language>en-US</dc:language>
  <cp:lastModifiedBy>mromain</cp:lastModifiedBy>
  <dcterms:modified xsi:type="dcterms:W3CDTF">2014-05-20T14:32:18Z</dcterms:modified>
  <cp:revision>323</cp:revision>
  <dc:subject>Supplier Relationship Management</dc:subject>
  <dc:title>Illustrations</dc:title>
</cp:coreProperties>
</file>